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C44E-0673-4A8D-BD47-1C12FE5C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3FCA-47A0-4320-9CBC-6CDA3776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196E-A381-459E-9BE9-C2CE0356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B145-F768-408B-B59F-321DD6C8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D784-97EA-4983-A30F-45CE7D29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4EC3-EBB8-4B20-A015-5DD0393F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AE54-BCB6-41F1-9F61-978D05D3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3623-FEAC-4264-A695-ECD2477E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FF6B-2AA0-461D-874E-0FE0B2ED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DBB7-70C9-4970-B9F0-A2666617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03FD-65FF-41BB-8B06-42544A24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F673-BAE5-40B3-A380-4B9B4ABE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DB9A-4E75-4A98-9CEB-E3CEDE72D9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Time seri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Seasonal adjustmen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Deseasonalising a time series involves replacing the original time series with another one where most or all of the seasonal variation has been removed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o deseasonalise data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Average over all seasons for each year—these are the yearly averag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Divide each point in the original time series by its corresponding yearly averag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Using this new series, average over all years for each season—these are the </a:t>
            </a:r>
            <a:r>
              <a:rPr b="1" lang="en-AU" sz="2800" spc="-1" strike="noStrike">
                <a:solidFill>
                  <a:srgbClr val="000000"/>
                </a:solidFill>
                <a:latin typeface="Cambria"/>
              </a:rPr>
              <a:t>seasonal indic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Divide each point in the original time series by its corresponding seasonal index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o deseasonalise figures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o seasonalise figures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Seasonalised data = deseasonalised data x seasonal index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sum of the seasonal indices is equal to the number of seaso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49" name="Object 2"/>
          <p:cNvGraphicFramePr/>
          <p:nvPr/>
        </p:nvGraphicFramePr>
        <p:xfrm>
          <a:off x="1284120" y="2230560"/>
          <a:ext cx="620892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4120" y="2230560"/>
                    <a:ext cx="620892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 4F: 1, 6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You do Ex 4F: 2, 3, 5, 7, 8, 9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04:49:14Z</dcterms:created>
  <dc:creator>08843474</dc:creator>
  <dc:description/>
  <dc:language>en-US</dc:language>
  <cp:lastModifiedBy>08843474</cp:lastModifiedBy>
  <dcterms:modified xsi:type="dcterms:W3CDTF">2011-04-03T04:59:09Z</dcterms:modified>
  <cp:revision>1</cp:revision>
  <dc:subject/>
  <dc:title>Time series</dc:title>
</cp:coreProperties>
</file>